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BD8-B527-468F-B1AC-B92431A9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C299-68BF-4DC8-B7FD-AA8987C9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521-6006-4B1E-9685-602A5437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E248-8966-4DC0-A06E-739D0E9B2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172-09F8-49D4-8C78-D8F66E53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C13-E27C-4F74-8922-8F7AB52D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6FA-D3E9-4C8E-B553-F8FF9DAB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AB3-5B97-4FFE-B90C-F0B757B8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B77-2BFB-4FCA-8A61-8F61BEAE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641-3A3A-456D-94ED-82A25F05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473-7BF6-4F43-B51B-F3EDF8DF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3E4-E018-4EDB-A1A9-E8104AB0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C1E4-1724-40FD-9B34-2331CBE8D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6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hang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co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ng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hange in an ecosystem that can be both good for some and bad for oth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beaver building a new home and having a better habitat; and the flooding of the riverbank near the beaver’s dam that destoys small animal’s h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some of the man-made changes in an eco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building new homes, clearing land, cutting down trees or throw out garb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new species end up in new locat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rough out history people have carried plants and animals over oceans, mountains, to new continents that have changed ecosyste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some new species mange to thrive and seem to grow endless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se species have no predato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arlic mustard plant was first brought to this country for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purpose of food and medicin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responsible for changes in Ecosystem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id rain affects an ecosystem 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rain absorbing pollutants in the atmosphere and then falling to the ground and seriously polluting the water and the grou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offspring get their parents genes, DNA, characteristic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inher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change in an organism’s genes or characteristic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mu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body part called that helps an organism or species survi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structural adap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inherited behavior that helps an animal or species survi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behavioral adap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people and anim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pile of garbage that is eventually covered with soil and gras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landfil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uch garbage does an average American throw out a da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.8 kilograms or 3.96 pounds of garba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poisons that kill insec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pesticid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we call a species that has no members of its kind ali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 we call extin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hows us species that lived long ago that are now extinc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fossi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scribe the time necessary for changes in ecosystems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fossils teach us about extinction?__________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rst that a wide variety of species has become extinct throughout history. Second we get clues as to why some species survive well and why others do no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systems of living and non-living thing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ecosyste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happens when bacteria develop adaptations against an antibiotic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medicine used to fight the bacteria becomes less effective in fighting the bacteria, and the bacteria becomes harder to tre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behavioral adaptation allow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wks to live inn a c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king nests on tall building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st and describe the two kinds of adaptat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ructural adaptations are changed body parts and behaviora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aptations are instinc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ometimes quickly and sometimes slowly/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pecifically did the pesticide DDT do endanger the Bald Eagle popul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pesticide DDT made the eagle’s eggs have thin shells and many of th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abies did not survi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lain a helpful change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earth worms digging holes in the soil for aeration and decomposing nutrients back into the so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xplain a harmful change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destruction of the land by a swarm of locusts?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1-12-15T19:12:02Z</dcterms:modified>
  <cp:revision>59</cp:revision>
  <dc:subject/>
  <dc:title>No Slide Title</dc:title>
</cp:coreProperties>
</file>